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D96C-DBE3-414A-92D4-291549002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29D9-0736-44C5-9797-7C8E60AF0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A4B3-A1A3-49E8-9A43-0CF2BCDA1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19F9-38AE-4768-BEA2-AFBFDC8C3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F299-3C0A-4531-8DBD-5EB5B19DE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703F-8CC2-449D-BA88-DA93FBB52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1A35-DA97-42B5-9948-77D74C01E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85F4-DA9E-4549-9D19-ED28CA27C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6627-CCCE-42B7-859C-726C7AF5A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DDC1-DA04-4279-9183-BADF0DAB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E4C2-7BF9-409C-8C80-489D49A8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4900-9015-4F84-B1E3-C7A74761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3D1CC-BC65-41EC-9F70-2FF76415A6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4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59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3"/>
          <a:stretch/>
        </p:blipFill>
        <p:spPr>
          <a:xfrm>
            <a:off x="324000" y="1484280"/>
            <a:ext cx="8569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78" name="عنوان 1"/>
          <p:cNvSpPr/>
          <p:nvPr/>
        </p:nvSpPr>
        <p:spPr>
          <a:xfrm>
            <a:off x="355680" y="2076480"/>
            <a:ext cx="856908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حي إلها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وحي النبوة لا يكون إلا للرجا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10" descr=""/>
          <p:cNvPicPr/>
          <p:nvPr/>
        </p:nvPicPr>
        <p:blipFill>
          <a:blip r:embed="rId3"/>
          <a:stretch/>
        </p:blipFill>
        <p:spPr>
          <a:xfrm>
            <a:off x="368280" y="907920"/>
            <a:ext cx="8596440" cy="1168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"/>
          <p:cNvPicPr/>
          <p:nvPr/>
        </p:nvPicPr>
        <p:blipFill>
          <a:blip r:embed="rId4"/>
          <a:stretch/>
        </p:blipFill>
        <p:spPr>
          <a:xfrm>
            <a:off x="2556000" y="3789360"/>
            <a:ext cx="6273720" cy="482760"/>
          </a:xfrm>
          <a:prstGeom prst="rect">
            <a:avLst/>
          </a:prstGeom>
          <a:ln w="0">
            <a:noFill/>
          </a:ln>
        </p:spPr>
      </p:pic>
      <p:sp>
        <p:nvSpPr>
          <p:cNvPr id="81" name="عنوان 1"/>
          <p:cNvSpPr/>
          <p:nvPr/>
        </p:nvSpPr>
        <p:spPr>
          <a:xfrm>
            <a:off x="324000" y="443700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حتى لا نعمل مثل ما عملوا فيصيبنا مثل ما أصاب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208"/>
          <a:stretch/>
        </p:blipFill>
        <p:spPr>
          <a:xfrm>
            <a:off x="195120" y="2708280"/>
            <a:ext cx="8753760" cy="17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1304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324000" y="1700280"/>
            <a:ext cx="8496000" cy="3241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2635200" y="5089680"/>
            <a:ext cx="38736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75840" cy="1055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179280" y="1052640"/>
            <a:ext cx="878544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0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8642160" cy="4751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72540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39760" y="48639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طريق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130560" y="907920"/>
            <a:ext cx="41781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هج دعوة النبي </a:t>
            </a:r>
            <a:r>
              <a:rPr b="1" lang="en-US" sz="22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50920" y="566100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نزيه ا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3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دعوة إلى الله عز وجل على علم وهدى وبصيرة واتباع منهج الرسول </a:t>
            </a:r>
            <a:r>
              <a:rPr b="1" lang="ar-SA" sz="19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في الدعوة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نهج الصحيح في البدء بالدعوة إلى الل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بدء بالتوحيد والتحذير من الشر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في أن الله لم يبعث رسولاً من النساء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الرسالة من خصوصيات الرجا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نظر والتأمل والتدبر في أخبار وآثار ومآل الأمم السابق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ث عليه الإسلا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زاء أهل الإيمان والتقوى في الآخر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جن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"/>
          <p:cNvPicPr/>
          <p:nvPr/>
        </p:nvPicPr>
        <p:blipFill>
          <a:blip r:embed="rId3"/>
          <a:stretch/>
        </p:blipFill>
        <p:spPr>
          <a:xfrm>
            <a:off x="488880" y="907920"/>
            <a:ext cx="8467920" cy="1152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"/>
          <p:cNvPicPr/>
          <p:nvPr/>
        </p:nvPicPr>
        <p:blipFill>
          <a:blip r:embed="rId4"/>
          <a:stretch/>
        </p:blipFill>
        <p:spPr>
          <a:xfrm>
            <a:off x="250920" y="2157480"/>
            <a:ext cx="84247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412920" y="907920"/>
            <a:ext cx="8480160" cy="2521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0" name="عنوان 1"/>
          <p:cNvSpPr/>
          <p:nvPr/>
        </p:nvSpPr>
        <p:spPr>
          <a:xfrm>
            <a:off x="276120" y="3573360"/>
            <a:ext cx="863604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شترط في الدعوة اكتمال العلم بل يكفي ان يدعوهم بقدر علمه ولا يشترط ترك جميع المعاصي . قال الله تعالى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4"/>
          <a:stretch/>
        </p:blipFill>
        <p:spPr>
          <a:xfrm>
            <a:off x="235080" y="4556160"/>
            <a:ext cx="867240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20T05:38:47Z</dcterms:modified>
  <cp:revision>2025</cp:revision>
  <dc:subject/>
  <dc:title>عرض تقديمي في PowerPoint</dc:title>
</cp:coreProperties>
</file>